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56B5-9B1E-4316-B567-53E44BD33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B629-8545-4CCF-A612-4A7574CE8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1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66B0-34BF-415D-A330-FFEB510E1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E3DF-FC47-48AD-968F-BB71EF9A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A27C-ECB1-4F6C-AD75-3924ADCEE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AB45-BA68-4720-9323-214EFD3A5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1019-D34A-4EE2-A579-7471A8D3C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E8AA-1438-438C-BAEF-9299DC89A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F25C-ED79-4C5B-B055-1432B5904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02E0-7E39-44AF-9FBB-DE11B4D12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B991-E66A-4F5C-B9F0-0A487AACA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4897-5CA3-4762-86A4-B540FF851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438F-2650-4877-92D5-9B1FAFB30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B444-2767-4702-AE51-D3B329CB9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8ACD-8FB1-4921-974C-DA9E5EB03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3408-7FE5-44AB-8D03-BC03F1090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8298-E677-467B-9569-A1969C264E6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5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8 Projects\C21 Accounting\C21 Acct Covers\C21 Accounting Cover Images_Blue\Gilbertson_0538447052_amzn.jpg"/>
          <p:cNvPicPr/>
          <p:nvPr/>
        </p:nvPicPr>
        <p:blipFill>
          <a:blip r:embed="rId2"/>
          <a:stretch/>
        </p:blipFill>
        <p:spPr>
          <a:xfrm>
            <a:off x="0" y="14400"/>
            <a:ext cx="968400" cy="12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8 Projects\C21 Accounting\C21 Acct Covers\C21 Accounting Cover Images_Blue\Gilbertson_0538447052_amzn.jpg"/>
          <p:cNvPicPr/>
          <p:nvPr/>
        </p:nvPicPr>
        <p:blipFill>
          <a:blip r:embed="rId2"/>
          <a:stretch/>
        </p:blipFill>
        <p:spPr>
          <a:xfrm>
            <a:off x="0" y="14400"/>
            <a:ext cx="968400" cy="12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5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15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eparing an Income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106D-848C-4809-BDB9-1FFBF4C62AC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5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658044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STATEMENT INFORMATION ON A WORK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C:\Documents and Settings\mcm08@fuse.net\My Documents\2005 Business Projects\Slides for Century 21 Accounting\Blue\ch15\C21_blue_1501.jpg"/>
          <p:cNvPicPr/>
          <p:nvPr/>
        </p:nvPicPr>
        <p:blipFill>
          <a:blip r:embed="rId1"/>
          <a:stretch/>
        </p:blipFill>
        <p:spPr>
          <a:xfrm>
            <a:off x="1243080" y="1447920"/>
            <a:ext cx="6605640" cy="4829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4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BC33-3860-42B6-AC02-B94362DDBEC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5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4224960" y="4510080"/>
            <a:ext cx="398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 account am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NUE SECTION OF AN INCOME STATEMENT FOR A MERCHANDISING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C:\Documents and Settings\mcm08@fuse.net\My Documents\2005 Business Projects\Slides for Century 21 Accounting\Blue\ch15\C21_blue_1502.jpg"/>
          <p:cNvPicPr/>
          <p:nvPr/>
        </p:nvPicPr>
        <p:blipFill>
          <a:blip r:embed="rId1"/>
          <a:srcRect l="0" t="2459" r="0" b="1391"/>
          <a:stretch/>
        </p:blipFill>
        <p:spPr>
          <a:xfrm>
            <a:off x="304920" y="1447920"/>
            <a:ext cx="853416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6019920" y="17524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4920" y="25146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752480" y="304308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934320" y="304308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581280" y="35514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5029200" y="408924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6172200" y="4089240"/>
            <a:ext cx="411120" cy="411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685800" y="39625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8001000" y="39625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-37440" y="4510080"/>
            <a:ext cx="21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4226400" y="4876920"/>
            <a:ext cx="348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 account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-41040" y="5240160"/>
            <a:ext cx="39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of revenue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4229640" y="5238720"/>
            <a:ext cx="23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-38160" y="5605560"/>
            <a:ext cx="276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4227480" y="5605560"/>
            <a:ext cx="32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sales am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-42840" y="597060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ntra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-39960" y="4875120"/>
            <a:ext cx="317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 s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4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9268-54E0-43B6-BB79-2388FCB23AB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5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MERCHANDISE SOLD SECTION OF AN INCOME STATEMENT FOR A MERCHANDISING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C:\Documents and Settings\mcm08@fuse.net\My Documents\2005 Business Projects\Slides for Century 21 Accounting\Blue\ch15\C21_blue_1503.jpg"/>
          <p:cNvPicPr/>
          <p:nvPr/>
        </p:nvPicPr>
        <p:blipFill>
          <a:blip r:embed="rId1"/>
          <a:srcRect l="0" t="0" r="8161" b="6461"/>
          <a:stretch/>
        </p:blipFill>
        <p:spPr>
          <a:xfrm>
            <a:off x="304920" y="1371600"/>
            <a:ext cx="5790960" cy="4113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4"/>
          <p:cNvSpPr/>
          <p:nvPr/>
        </p:nvSpPr>
        <p:spPr>
          <a:xfrm>
            <a:off x="533520" y="3094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895480" y="362736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98360" y="39625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4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35"/>
          <p:cNvGrpSpPr/>
          <p:nvPr/>
        </p:nvGrpSpPr>
        <p:grpSpPr>
          <a:xfrm>
            <a:off x="2695680" y="4878360"/>
            <a:ext cx="811080" cy="1219320"/>
            <a:chOff x="2695680" y="4878360"/>
            <a:chExt cx="811080" cy="1219320"/>
          </a:xfrm>
        </p:grpSpPr>
        <p:sp>
          <p:nvSpPr>
            <p:cNvPr id="134" name="Freeform 21"/>
            <p:cNvSpPr/>
            <p:nvPr/>
          </p:nvSpPr>
          <p:spPr>
            <a:xfrm>
              <a:off x="2695680" y="4878360"/>
              <a:ext cx="609480" cy="914400"/>
            </a:xfrm>
            <a:custGeom>
              <a:avLst/>
              <a:gdLst/>
              <a:ahLst/>
              <a:rect l="l" t="t" r="r" b="b"/>
              <a:pathLst>
                <a:path w="384" h="576">
                  <a:moveTo>
                    <a:pt x="0" y="0"/>
                  </a:moveTo>
                  <a:lnTo>
                    <a:pt x="384" y="0"/>
                  </a:lnTo>
                  <a:lnTo>
                    <a:pt x="384" y="5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7"/>
            <p:cNvSpPr/>
            <p:nvPr/>
          </p:nvSpPr>
          <p:spPr>
            <a:xfrm>
              <a:off x="3095640" y="568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34"/>
          <p:cNvGrpSpPr/>
          <p:nvPr/>
        </p:nvGrpSpPr>
        <p:grpSpPr>
          <a:xfrm>
            <a:off x="2209680" y="5267160"/>
            <a:ext cx="657360" cy="830520"/>
            <a:chOff x="2209680" y="5267160"/>
            <a:chExt cx="657360" cy="830520"/>
          </a:xfrm>
        </p:grpSpPr>
        <p:sp>
          <p:nvSpPr>
            <p:cNvPr id="137" name="Freeform 22"/>
            <p:cNvSpPr/>
            <p:nvPr/>
          </p:nvSpPr>
          <p:spPr>
            <a:xfrm>
              <a:off x="2209680" y="5267160"/>
              <a:ext cx="457200" cy="762120"/>
            </a:xfrm>
            <a:custGeom>
              <a:avLst/>
              <a:gdLst/>
              <a:ahLst/>
              <a:rect l="l" t="t" r="r" b="b"/>
              <a:pathLst>
                <a:path w="384" h="576">
                  <a:moveTo>
                    <a:pt x="0" y="0"/>
                  </a:moveTo>
                  <a:lnTo>
                    <a:pt x="384" y="0"/>
                  </a:lnTo>
                  <a:lnTo>
                    <a:pt x="384" y="5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9"/>
            <p:cNvSpPr/>
            <p:nvPr/>
          </p:nvSpPr>
          <p:spPr>
            <a:xfrm>
              <a:off x="2455920" y="568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33"/>
          <p:cNvGrpSpPr/>
          <p:nvPr/>
        </p:nvGrpSpPr>
        <p:grpSpPr>
          <a:xfrm>
            <a:off x="152280" y="5068800"/>
            <a:ext cx="514440" cy="1028880"/>
            <a:chOff x="152280" y="5068800"/>
            <a:chExt cx="514440" cy="1028880"/>
          </a:xfrm>
        </p:grpSpPr>
        <p:sp>
          <p:nvSpPr>
            <p:cNvPr id="140" name="Freeform 25"/>
            <p:cNvSpPr/>
            <p:nvPr/>
          </p:nvSpPr>
          <p:spPr>
            <a:xfrm>
              <a:off x="361800" y="5068800"/>
              <a:ext cx="304920" cy="838440"/>
            </a:xfrm>
            <a:custGeom>
              <a:avLst/>
              <a:gdLst/>
              <a:ahLst/>
              <a:rect l="l" t="t" r="r" b="b"/>
              <a:pathLst>
                <a:path w="192" h="528">
                  <a:moveTo>
                    <a:pt x="192" y="0"/>
                  </a:moveTo>
                  <a:lnTo>
                    <a:pt x="0" y="0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152280" y="568656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Rectangle 27"/>
          <p:cNvSpPr/>
          <p:nvPr/>
        </p:nvSpPr>
        <p:spPr>
          <a:xfrm>
            <a:off x="6248520" y="137160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Merchandise Sold s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6248520" y="24066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ning inven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6248520" y="313704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0"/>
          <p:cNvSpPr/>
          <p:nvPr/>
        </p:nvSpPr>
        <p:spPr>
          <a:xfrm>
            <a:off x="6248520" y="386856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ost of merchandise available for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6248520" y="4903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6248520" y="533088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merchandise 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B75E-9B9A-41D9-9F5F-408A18A9BD40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5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5"/>
          <p:cNvGrpSpPr/>
          <p:nvPr/>
        </p:nvGrpSpPr>
        <p:grpSpPr>
          <a:xfrm>
            <a:off x="554040" y="1447920"/>
            <a:ext cx="4932360" cy="4651200"/>
            <a:chOff x="554040" y="1447920"/>
            <a:chExt cx="4932360" cy="4651200"/>
          </a:xfrm>
        </p:grpSpPr>
        <p:pic>
          <p:nvPicPr>
            <p:cNvPr id="151" name="Picture 7" descr="C:\Documents and Settings\mcm08@fuse.net\My Documents\2005 Business Projects\Slides for Century 21 Accounting\Blue\ch15\C21_blue_1505.jpg"/>
            <p:cNvPicPr/>
            <p:nvPr/>
          </p:nvPicPr>
          <p:blipFill>
            <a:blip r:embed="rId1"/>
            <a:srcRect l="0" t="0" r="0" b="85289"/>
            <a:stretch/>
          </p:blipFill>
          <p:spPr>
            <a:xfrm>
              <a:off x="554040" y="1447920"/>
              <a:ext cx="49323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2" descr="C:\Documents and Settings\mcm08@fuse.net\My Documents\2005 Business Projects\Slides for Century 21 Accounting\Blue\ch15\C21_blue_1505.jpg"/>
            <p:cNvPicPr/>
            <p:nvPr/>
          </p:nvPicPr>
          <p:blipFill>
            <a:blip r:embed="rId2"/>
            <a:srcRect l="0" t="40374" r="0" b="10599"/>
            <a:stretch/>
          </p:blipFill>
          <p:spPr>
            <a:xfrm>
              <a:off x="554040" y="2544840"/>
              <a:ext cx="4932360" cy="355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ING AN INCOME STATEMENT FOR A MERCHANDISING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198360" y="26100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331920" y="417996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181080" y="54770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1295280" y="59436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4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5380200" y="25146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2514600" y="531324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6"/>
          <p:cNvGrpSpPr/>
          <p:nvPr/>
        </p:nvGrpSpPr>
        <p:grpSpPr>
          <a:xfrm>
            <a:off x="5029200" y="5715000"/>
            <a:ext cx="762120" cy="411120"/>
            <a:chOff x="5029200" y="5715000"/>
            <a:chExt cx="762120" cy="411120"/>
          </a:xfrm>
        </p:grpSpPr>
        <p:sp>
          <p:nvSpPr>
            <p:cNvPr id="162" name="Line 26"/>
            <p:cNvSpPr/>
            <p:nvPr/>
          </p:nvSpPr>
          <p:spPr>
            <a:xfrm>
              <a:off x="5029200" y="5919840"/>
              <a:ext cx="639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5380200" y="57150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5943600" y="5318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perce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5943600" y="49528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li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5943600" y="4282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Income after Federal Income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5943600" y="330660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Federal Income Tax Expe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5943600" y="263700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Income before Federal Income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5943600" y="22716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se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5943600" y="160020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 Profit on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710E-6F2F-40A4-B6E3-2C36A285C4A0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15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erchandise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profit on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4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6:52:54Z</dcterms:created>
  <dc:creator>M. C. McLaughlin</dc:creator>
  <dc:description/>
  <dc:language>en-US</dc:language>
  <cp:lastModifiedBy>Amanda Mason</cp:lastModifiedBy>
  <dcterms:modified xsi:type="dcterms:W3CDTF">2014-04-03T15:15:13Z</dcterms:modified>
  <cp:revision>21</cp:revision>
  <dc:subject/>
  <dc:title>Lesson 15-1</dc:title>
</cp:coreProperties>
</file>